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1E525-E084-4588-87ED-A0D36F8DA2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0560" y="3636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09DF4-90F6-42DC-8000-02678DB60D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0560" y="3636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DD085-680A-4E17-B890-2026F7381C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0560" y="3636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DEB8C-5569-47F0-9E39-4BA79FC50C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5D6C54-ACF8-4054-8A87-8BDC749B9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560" y="3636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4E0EBB-2E40-48D1-BF86-C0F98B0D4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560" y="3636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474FFB-7AB3-4014-BF61-B126C30CE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560" y="3636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4F1A94-3302-4A46-BD28-709631F28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560" y="3636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3D561D-7280-4A2E-8A87-0FF5F569C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250560" y="44280"/>
            <a:ext cx="7391160" cy="26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FF8068-507A-43A0-AB61-C27DA9603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560" y="3636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2ABF1E-DDE0-4C4B-84CC-A18D6AAD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0560" y="3636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78B62-49E1-4D3A-AA39-68C566B570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560" y="3636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4A66FD-97F0-4ACE-957D-48FD80736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0560" y="3636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AEA20C-5C7B-4701-B8E0-33BF58DD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560" y="3636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42A489-377B-4943-B2DA-5F74B3B68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50560" y="3636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E7E652-ADF8-4759-A66C-0FCB3AAB9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0560" y="3636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372222-2E24-4716-AEAF-E38C03997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0560" y="3636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3D009-AEB8-441A-978C-8367A01CD0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560" y="3636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1EDC5-06E8-4069-92D0-F2514F73AF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0560" y="3636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32C95-97C0-4191-A5A7-3CFEB80563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0560" y="44280"/>
            <a:ext cx="7391160" cy="26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183AC-8D0B-49C6-BE46-3E7588DCDD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0560" y="3636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C37F2-4AC5-4166-A5C4-4E3777D142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0560" y="3636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65C02-CC15-47E2-A8D4-2E336BE2E4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0560" y="3636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49A00-53D5-42BE-B8CF-A3E77F28D9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440" y="49320"/>
            <a:ext cx="8386920" cy="685800"/>
          </a:xfrm>
          <a:prstGeom prst="rect">
            <a:avLst/>
          </a:prstGeom>
          <a:gradFill rotWithShape="0">
            <a:gsLst>
              <a:gs pos="0">
                <a:srgbClr val="1f63ad"/>
              </a:gs>
              <a:gs pos="100000">
                <a:srgbClr val="e2eaf3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7548480" cy="660240"/>
          </a:xfrm>
          <a:prstGeom prst="rect">
            <a:avLst/>
          </a:prstGeom>
          <a:gradFill rotWithShape="0">
            <a:gsLst>
              <a:gs pos="0">
                <a:srgbClr val="460b05">
                  <a:alpha val="0"/>
                </a:srgbClr>
              </a:gs>
              <a:gs pos="100000">
                <a:srgbClr val="99190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>
          <a:xfrm>
            <a:off x="107640" y="6526080"/>
            <a:ext cx="33130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3366"/>
                </a:solidFill>
                <a:latin typeface="华文中宋"/>
                <a:ea typeface="华文中宋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3366"/>
                </a:solidFill>
                <a:latin typeface="华文中宋"/>
                <a:ea typeface="华文中宋"/>
              </a:rPr>
              <a:t>"</a:t>
            </a:r>
            <a:r>
              <a:rPr b="0" lang="zh-CN" sz="1200" spc="-1" strike="noStrike">
                <a:solidFill>
                  <a:srgbClr val="003366"/>
                </a:solidFill>
                <a:latin typeface="华文中宋"/>
                <a:ea typeface="华文中宋"/>
              </a:rPr>
              <a:t>原动力</a:t>
            </a:r>
            <a:r>
              <a:rPr b="0" lang="zh-CN" sz="1200" spc="-1" strike="noStrike">
                <a:solidFill>
                  <a:srgbClr val="003366"/>
                </a:solidFill>
                <a:latin typeface="华文中宋"/>
                <a:ea typeface="华文中宋"/>
              </a:rPr>
              <a:t>"</a:t>
            </a:r>
            <a:r>
              <a:rPr b="0" lang="zh-CN" sz="1200" spc="-1" strike="noStrike">
                <a:solidFill>
                  <a:srgbClr val="003366"/>
                </a:solidFill>
                <a:latin typeface="华文中宋"/>
                <a:ea typeface="华文中宋"/>
              </a:rPr>
              <a:t>中国高校动漫出版孵化计划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250560" y="44280"/>
            <a:ext cx="739116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934320" y="65354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F4742-00B6-4763-811B-0BF2A8E4358B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8461440" y="44280"/>
          <a:ext cx="647640" cy="64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61440" y="44280"/>
                    <a:ext cx="647640" cy="6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3"/>
          </p:nvPr>
        </p:nvSpPr>
        <p:spPr>
          <a:xfrm>
            <a:off x="38095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4"/>
          </p:nvPr>
        </p:nvSpPr>
        <p:spPr>
          <a:xfrm>
            <a:off x="228240" y="647676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5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69077-7EFF-47E4-8145-C0B9937FE763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440" y="0"/>
          <a:ext cx="9180720" cy="685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0" y="0"/>
                    <a:ext cx="91807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TextBox 4"/>
          <p:cNvSpPr/>
          <p:nvPr/>
        </p:nvSpPr>
        <p:spPr>
          <a:xfrm>
            <a:off x="612720" y="17640"/>
            <a:ext cx="23036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50000"/>
              </a:lnSpc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a50021"/>
                </a:solidFill>
                <a:latin typeface="华文中宋"/>
                <a:ea typeface="华文中宋"/>
              </a:rPr>
              <a:t>“</a:t>
            </a:r>
            <a:r>
              <a:rPr b="1" lang="zh-CN" sz="1200" spc="-1" strike="noStrike">
                <a:solidFill>
                  <a:srgbClr val="a50021"/>
                </a:solidFill>
                <a:latin typeface="华文中宋"/>
                <a:ea typeface="华文中宋"/>
              </a:rPr>
              <a:t>原动力”中国高校动漫出版孵化计划申报作品简介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8280" y="44280"/>
          <a:ext cx="648000" cy="64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8280" y="44280"/>
                    <a:ext cx="648000" cy="6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33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336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00000" y="1803240"/>
            <a:ext cx="70581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×××</a:t>
            </a:r>
            <a:r>
              <a:rPr b="1" lang="zh-CN" sz="4400" spc="-1" strike="noStrike">
                <a:solidFill>
                  <a:srgbClr val="ff0000"/>
                </a:solidFill>
                <a:latin typeface="华文中宋"/>
                <a:ea typeface="华文中宋"/>
              </a:rPr>
              <a:t>作品简介模板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00000" y="2752560"/>
            <a:ext cx="70581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申报单位名称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5280" y="765000"/>
            <a:ext cx="9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黑体"/>
                <a:ea typeface="黑体"/>
              </a:rPr>
              <a:t>附件</a:t>
            </a:r>
            <a:r>
              <a:rPr b="0" lang="zh-CN" sz="1400" spc="-1" strike="noStrike">
                <a:solidFill>
                  <a:srgbClr val="003366"/>
                </a:solidFill>
                <a:latin typeface="黑体"/>
                <a:ea typeface="黑体"/>
              </a:rPr>
              <a:t>2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79280" y="44280"/>
            <a:ext cx="647712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华文新魏"/>
              </a:rPr>
              <a:t>目录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1268280"/>
            <a:ext cx="822960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920" indent="-7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概    要    作品优势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7920" indent="-7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一部分    作品基本情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7920" indent="-7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仿宋_GB2312"/>
              </a:rPr>
              <a:t>       </a:t>
            </a: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仿宋_GB2312"/>
              </a:rPr>
              <a:t>（注：包括但不局限于作品创作背景和目的；故事梗概、角色介绍和美术风格介绍展示；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7920" indent="-7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仿宋_GB2312"/>
              </a:rPr>
              <a:t>             </a:t>
            </a: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仿宋_GB2312"/>
              </a:rPr>
              <a:t>作品申报规模；市场定位和受众群体；项目实施条件等）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7920" indent="-7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二部分    作品创作团队基本情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7920" indent="-7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三部分    作品实施计划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7920" indent="-7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仿宋_GB2312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仿宋_GB2312"/>
              </a:rPr>
              <a:t>（注：包括但不局限于作品已完成情况、实施进度安排、出版或宣传推广计划、所需资金等）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7920" indent="-7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四部分    其他情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9T13:32:22Z</dcterms:created>
  <dc:creator>abc</dc:creator>
  <dc:description/>
  <dc:language>en-US</dc:language>
  <cp:lastModifiedBy>Jo</cp:lastModifiedBy>
  <cp:lastPrinted>1899-12-30T00:00:00Z</cp:lastPrinted>
  <dcterms:modified xsi:type="dcterms:W3CDTF">2012-03-05T21:55:15Z</dcterms:modified>
  <cp:revision>1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671</vt:lpwstr>
  </property>
</Properties>
</file>